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9B51-B1E6-45B1-9AD1-A71531BA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4B5D-4B9C-4C2F-9EB9-5CE5620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84FC-2E37-4E80-891C-0747DFE8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08D8-01B4-424F-88B4-36ACD0E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154-CEAA-492C-A077-9B0D66D4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2E50-FEB0-4695-9FEF-EB68FB5F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AC5-1195-4C6C-B88A-72626BD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072D-F83A-4850-B39E-0751F424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158-C6DB-4F4E-9685-62D2E00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935-2FC0-4E0B-B4CC-08250C41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24C-A534-4DC1-8587-C4B32ED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225B-4FE0-47C7-87A6-6711D230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9D7-623D-4BDA-A468-B739A08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7628-A495-4B3A-8A17-9CCD0E6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2DBC-A338-40C9-BE59-C7DD2D7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C84F-6111-4443-AC7F-95D3EDF3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C7C-B9CC-4891-8693-F18D280B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4242-8CE6-414A-8AE2-5964D3A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7D7D-A89A-41AD-8183-0EF9B73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A4CD-DE34-4D60-9A96-11A900A6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F517-DE83-4A41-9F43-177BCEF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7F50-73BB-457E-AD94-7EA7BC8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A548-34EC-4FC5-A995-87CE6AE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7DC4-1115-4750-8579-036B8C9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905-2A06-4E83-B30B-73A3F0CE3C6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99F-57C9-4F6C-96F0-F6B26BFC57B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788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0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, Теб люб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ам Си дял м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хвърлям тоз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бъда раб Тво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Си мо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, веселб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ен Си възлюбил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любя сег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343520" y="1026720"/>
            <a:ext cx="6418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усна Ти слав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ата твърд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ук Си предад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а на смър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бави с кръв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 и мойта душ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ен Си възлюбил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любя сег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354320" y="573840"/>
            <a:ext cx="65178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ебе ще люб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съм жив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ебе ще хвал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мой милости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к Тебе ще пе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часа на смъртта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Ти мен Си възлюбил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любя сега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67120" y="1242360"/>
            <a:ext cx="6772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жилище славн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женство без кр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ебе ще хвал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я ра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ечно ще хвал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а Христа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Ти мен Си възлюбил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любя сега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9-05T14:54:25Z</dcterms:modified>
  <cp:revision>5</cp:revision>
  <dc:subject/>
  <dc:title>Slide 1</dc:title>
</cp:coreProperties>
</file>